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E31-1320-46E3-89CD-35AB25C4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405-1514-41F4-8083-001DC1A5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38544-E5BE-45AF-B567-0E4A4BD4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EC391-A093-4EF2-A9D0-A471C106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F29F5-DBAC-42CA-9FB1-E673F5E58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71E4C-4FBA-4FEB-9F28-60F707F8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858E7-12E7-4987-B458-71137806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16C57-7247-4D41-A5DC-68D85393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EC5D6-82E8-4EF8-B345-8BBB6CB1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FAF75-2803-4094-B15F-55478047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825A1-E7B7-4581-B940-CEF35D68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044E5-E032-4255-AEB6-DDEF3C54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1D50-E197-4E75-ACD5-A943E392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689D6-A909-4E86-A9AF-DACF94C1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58B8A-55A1-4EED-9661-086D36CB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A2F1D-4B0E-4433-A6F4-1443F045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4F734-6044-40E2-93AC-17DE019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5E6344-762D-45CE-A3C4-B4CED4E9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F22EF-B2C9-4132-B791-9EF1D9C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543E4-0C55-46F2-899A-BD398CC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7C0DE-9A26-4B77-AC20-A463621A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15AA2-F37D-47F7-85EC-44C635CE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7FA3A-CC99-4539-960E-1A1571A3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14B-643F-4D00-BAB5-68C034F9B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2312C-5E00-4973-9C58-6E55B766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A3776-0D47-4A40-A66B-0633F4F2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980D8-E8EC-442C-AB80-A8C92DA8B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3B9AB-65AF-46F3-90BF-4ADE14BB9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7E3D1-05CA-4422-8CF0-E996CC461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01944-9E3C-4A79-9B74-738AF91B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2CAB2-C42B-4B97-A71A-9B1D7B33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750AF3-5758-4C7D-B975-8D96D95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CACFB4-CF8B-4567-8C29-A44BDBA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DB7B0-9799-4356-B9BB-C8084F25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AF22-27B3-467C-AEDA-4B2E2908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F6B9F-5E7D-4FDB-A703-47D91302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D16D6-8367-47A3-B31D-6BDFB460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D01A-6ED0-4A15-8CA0-DDD294B3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2D940-733A-47D7-AFAA-258C9F12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C408A2-64A1-4C15-AD19-D0E078FA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89142-8422-432E-8386-8C1B4CA6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B499F-CAD6-4642-B783-1503B3D0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0FBA9-C8CD-471B-97BE-A0E02060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FE021-C879-4D37-86E7-B9AE5926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60372-5ECE-4480-B8FA-87F7D99E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4F93-9730-41B5-98DD-99996F7B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9E7D5-562F-4537-922E-C671556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79644-8E2E-4D9E-AE45-8B05526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CBDE0A-ACBE-4BC1-8D8C-21B438D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D8E3D-3D2D-4A42-B665-F11FAA24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7AB02-6ABB-40E6-8AE7-A524FECE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06CD4-5225-4A63-9AAA-936B14B0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3ECD18-A31C-45B3-A17D-5E89F43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2F1DF-7252-4C62-80E8-F7AFB27C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3E389-3BD8-4EC7-A5E2-A3BEFA5B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BF776-D6DB-4935-A024-919C4357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D4EF-5BC7-4DAE-86B2-B962CD5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CD26E-A8B6-44DC-A308-F67BB1D9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AF2F2-BCF3-4199-9C8A-FD618AC0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50554C-10CE-4AB4-B828-29A28161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E5FEA-56C3-4DA6-B96F-5BA75C0A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6BACD-22C6-4BCF-845F-7EB2C7A8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A902D-E384-41FF-A581-2CD9BB52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98F69A-79DA-4DEB-8485-BA81C3A3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6EC22-8BA4-4A3D-8A81-5B333246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813579-44AF-4364-BA14-AB3DE17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C4FB6-88CE-479A-BA27-65A080FA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DA64-3F68-4EDE-B822-4B3AF7BD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9C91A-8405-4815-A4F9-9EA400C9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A9C89-DB74-48AD-B556-7A134152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47E07-582D-43CC-A86A-F80BC2E2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2D4B5-73F6-45FB-8459-62F7594B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DB0D1D-E302-41EF-9BF1-7A5330F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EC5989-8106-4F9A-BB5D-2FD80708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DA8598-59A2-4C4A-84A6-17BC4C5D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41B33-E952-4142-A6D0-5A8C9CB0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B912B-72AB-485C-B307-5DBA8C60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B43B9-68D8-457B-98DA-F6859C16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69C5-5511-4688-A0CA-BEF89D37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50A163-101E-4ACD-84AA-0D13A21E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2BE58-CF01-492D-96E2-5C09998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7FE5D-60BE-404E-94A5-47C50BB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0F7FE-E906-4EDA-8D75-7B7F34E03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E2330E-E8E4-4746-83B7-0C5CE0F7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59F149-C89C-4219-B6E7-353134C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61E5E0-901C-4E2D-878F-BB5558E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EE3C4-70EB-40C7-AC1F-24EA69C0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6F632B-E02D-4B80-8F37-EE96363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5F361-AE43-468C-8725-B9A312F7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3952-D827-4DE6-84F1-65F79A65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F8826-A86C-4D66-86BD-6945AD3F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CB929-4D59-4BDA-8433-588F6FA69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4B9D9-4ECA-4350-A01D-141CDC75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59F69-9A55-4EF9-A6B2-40FE6648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60849-3794-4332-B503-B1A31A58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0FBB86-24DC-4642-A296-9916C84E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7616BE-B488-4C5E-B40C-B9DD7F13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A7207F-94FC-476D-A33C-1E5115D7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BD45D8-E968-4A7C-A9D3-74602ABD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F9789-57E7-437F-A4D2-3D6F833E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0B3B-C610-4926-AA3B-42B7C83F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5D0F1-FF58-462B-B2F7-C580F52F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9FBB3D-6670-4D91-BB42-FD556B52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A278C-A3E3-426D-8AA4-8D25B687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2E6F6C-36FA-4C80-A916-43F7CB51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604F6-4C0F-4CCB-BB44-19FBA3AF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324DD-8966-4E67-BEAE-13B0F939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1E5ED-9487-4C75-9FBF-EC095D6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CB3D85-2438-4CF4-B307-FC65E08B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2F32B-B09D-4165-893D-8A9CC27B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9F73CB-8691-447B-9533-296EAC82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CD2-3E1E-4269-BFAF-31DD5BF3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31D3-08FF-4351-82F3-12EF2B3E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26BC6-40B1-404E-91FC-DBFC29B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325360-D464-4242-BFCF-3EA2F57E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7458C-E256-4B5A-A043-2CB0111A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DD534-4B2F-41A4-8BD3-004CF986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30D349-5856-47D1-919B-78FEEA49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83545B-64B9-4C35-BFC1-F5E2DF01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BE3E9-A795-466E-A35C-4DBF97D1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365F8-AEA7-4461-BBE9-39D006DA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E31537-22D3-43F8-A312-5A8B5705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1087D-16A1-414E-A190-0B225AE6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28FC-72A7-4C9D-8FAB-9A9D425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E1232-3B34-4F87-A271-79C66718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395CE1-835F-4875-88BE-7BE278E1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8D96F-F3F3-4508-9C6C-232A796C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1C4378-44AC-4AAE-95CA-3895570B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DBCF8F-C4EC-4FC7-AA83-DC4F23B8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DA992-EF9E-4C06-A03C-EF054DC6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C2C4A-DD92-42FA-94C7-AC1C2DED7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F3F55-0C0D-4C9F-ACC3-6488312C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599183-B0E8-4E34-8A04-A7BF688E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40F97-C440-47EF-81B7-C6FC4017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4A9C-483E-405A-BE3A-37B30F08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B48DF8-27CB-4E3A-A273-8FA1F49D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F4623-2689-46F0-80E5-3C1B7BF0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9118F3-A58E-4BA2-A33A-A4925661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9DFCED-8495-4707-8993-F9D27657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0731DC-9050-4ADD-B0F2-0EECB835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493567-B808-4A56-A1E4-5794710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B39FF5-513D-4B33-95AD-30AD4B55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5CBD42-FA20-43BA-90C1-3439E1BCF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79C10-A52C-4CA4-8B50-147E71D4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9BE22-1D40-4A6B-A422-1D6611A7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0D826-45CE-403E-96E6-8A76D491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25B73-21D2-48A4-83FB-0C0F115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D287A-6BEA-4BEE-BE8B-F5D4C1DD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CC4B1-03CF-420A-A3E1-1DFB993E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98DE36-C2ED-486F-ABE4-B83B0C17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2B45CE-5571-45CB-8FEB-65BB2EC8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BF62A-5F9B-4543-B670-68918493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1F4BCE-9FA5-4A5F-BACC-49461E65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BF84E8-9726-4543-AD57-D4DCD28F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428315-4417-4897-8252-514E09BF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DF5B35-5448-4B01-B1D3-2FA6F798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2B5F-86E7-452E-82B0-6ADDC825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FF1379-C2C1-4A83-82D2-BFDB86F8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69A117-298B-4579-8D89-2C15D45A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215EEC-6833-46A0-A659-9BA5620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EDD283-CD61-4B81-9328-CB1EDBA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37D3D-CE09-4ABC-A334-9D7B7266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D2AE13-177F-438E-9097-0E723837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BE5BC3-4C19-4532-BFDA-EA41A41AB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FA83E-75B1-4E36-B3F4-CAE4294B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6A36E7-28CA-4AF9-A03E-D020E658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C242E-4D59-470B-8814-80C2C602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71DAE-2FAE-4DB0-B17D-75A3FD35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F6434D-87AF-4306-AC2B-24222CE7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73E41C-AC47-4B19-8D61-8B6F8F04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6D88A-98B7-4C5C-880D-687E6D284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B9DFF-3AC9-46B6-B6D1-D41CF21A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2456D-5317-408D-9331-BC2B89E2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D69D5-BF1E-4A9C-AA2D-F4601F1F0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E1F6F-160A-4487-BD54-EE6569F0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2B03-FDD2-4B4F-A71B-CC8800B4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35D0D-6E0C-44F2-92BB-D3382C5C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49E87-9B41-4606-8016-73DE038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771F-2900-492B-BB98-BB62F5C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A904-33C6-44A3-9182-208CEEA8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AD886-049F-4448-91F1-4E6DCD28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3554-D2EF-41CE-A590-089C53EB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79DF-B798-4931-A59D-85B8C620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06924-F7B4-441B-80B3-9D8F85CB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79E53-C0E6-4F35-9375-DB0A6C6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CDE6-6FE5-4950-8CA6-B8229AFD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3BD-2607-4B89-9AF3-D6E127DD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113F7-18CA-4EDF-8B51-8BA8927A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D86EC-BCCC-4C19-A750-16AA8D74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7933E-143A-4536-8BE5-8C7E1E58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F101E-8D55-41A5-81AE-2768A034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A3550-C7D4-4CF7-B421-4DE7D5C2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7D12-A667-44E6-AEA7-A1CF16C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676DC-EC59-4192-A388-287E48CD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8067B-E83E-4145-9887-C2B4A539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ACC06-FF4C-4097-9BB5-A048A7AFE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7829-101C-472A-8388-FB25F1424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0D0-1569-4730-955F-9F4F0471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29556-D4A3-441C-8627-5AE53D5E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D3703-C3E7-407A-8637-A81FBDB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84FA4-4D41-48D2-BCF2-69CAB847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F25C8-AD17-4350-A2B6-17100A76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C14D-5668-479B-B95A-41C83F73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ECFEC-F467-4F3C-BE92-F2951284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6EE9-E324-400A-96C6-EE3E21E8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18C12-7917-41B1-A23C-D1F32EF9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4FCBC-E814-412C-B502-1AF024BB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BE192-53CA-4C4F-95F2-09927789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4F5-FEE2-4471-B877-E5FAF16A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B38FF-BB6A-42F9-AB19-8EF8E802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82D41-12ED-4EFB-B2D4-E30488D48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AAFA1-E649-4E9F-915A-0CD65C28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CECC7-69B9-4CFB-B815-E89865D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00698-FD56-4548-B4DE-8A7263AB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AA364-8875-46CD-89B3-E7661C81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1F625-303F-4750-BF15-70F59B30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7856C-0BC6-484D-8C25-E287CAD8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51994-EC56-40AA-8EFB-08187795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8A775-F240-401E-8FA9-34690081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77AD-23C8-4BD0-94CF-791DE072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56BFC-7CEB-4BDF-9941-0D568F22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3E0E7-40A0-4B73-95F6-D3E4CC4E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9735B-0EF5-40F5-A2EC-63BA7264C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4B6C3-205A-46A8-A925-8FC54C800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8C7DA-701B-47CF-AC73-AAAAFA24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A3821-EEEA-4316-A8DE-3EDFA34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761E0-856D-4009-946C-FC20A9CB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D8FC1-3679-479C-ABA7-BC409E0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919D-2A92-4A91-98C5-B6AE075F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A008A-4AC4-4AFA-B527-F8446C1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A465-EFBB-4BC9-A28E-D5DCAECE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57A2A-CF31-4DAE-9E8C-D31D3A2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C645B-E725-4C05-A75A-97400810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2915B-3FC0-4C66-823C-DCFF86B7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E4145-1DAE-47FB-8CBB-EDCF3074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6AEAE-06C3-414C-A0F7-8126A993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A53BC-6EB2-4A56-B43C-093C779D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93A3D8-644B-4B72-A8B4-F7942451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38FF2-8FBC-402F-B4CE-19EDA411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9AE6D-2CA5-4AEF-8A31-3C5AF78E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D3972-534B-45B0-8287-D437CB46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F78-9F2D-4844-8CC5-C91A21F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C0D1-51B7-4E3A-B3F9-D3209A25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51125-C0EA-4D2F-AFE0-22A7F3E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7E40C-2D7F-4BBF-B3CE-86087119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A9F3D-3605-4CB5-B19E-95E39BD7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94F28-0541-4E5C-85D5-78B68446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87DBF-F41F-4E09-9561-0FEA5809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6F6D-4539-47A8-A90B-6330226F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7E077-9E1C-49BF-A682-FBEB043C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06C15-7E8E-49AE-A2AB-36340BAF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63A74-93A3-4FDC-8304-455DD21F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7C1E-10ED-4F76-A5D9-902175E1FF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B432-C641-4600-98FB-F5821FDCC9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551B-C923-4D09-9744-9070565D4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74C7-7CC4-4A8F-84EB-1F0BBDA54A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7CCB-1AD6-4D30-9A4C-D4A8F0AC22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5BD5-A80B-41DE-B6DD-8A76814FD2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E3BE-0536-4B8A-9B61-AC83EC4D5B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386-172A-480E-B2C8-CE4ED8EC60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8102-B0FE-4F6E-842C-7A83E606FE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E359-C537-4BE2-9208-C2BBA52115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5708-4C62-4F78-BB6A-498F2EEEEF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6505-2C08-4AB8-9B70-2C9DC5537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910D-026B-4FF4-9B20-D1EEB495EE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C01B-EDFF-4ECC-B554-64929A902A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89A5-DAAC-45DF-AB40-FFF6A2057E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45CC-4C1F-4BE3-B43B-AF05D8DACA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56EC-D55F-4737-BA9B-154EB64CB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EB7-48AF-401B-AA35-0305909D2F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4C94-6976-4A21-B878-E233E845AB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85CC-820A-4778-9F81-6BB36A8418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D782-69E3-4E71-9A28-A731B0A60E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A2B2-F5A3-4A8A-91BF-6F8B35FAB8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F42D-E2FA-464E-99E5-A61748A3B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A164-0648-4FAD-8E7B-CEBEFFD9CD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1868-05E1-4AB4-8779-CF363D4753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971-36BB-4F02-88BD-A2236B255F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26F-3D58-48B5-B921-B92679E52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4E78-F8A1-4565-909C-B84D90080C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137F-3319-4C0E-9210-7ADE0FA469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8094-2DEE-4185-B2B3-DB47E20DED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7C23-2CBA-41D6-9364-60F70D791A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6531-3FFB-4BAF-978D-F3F8CD1403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80E0-EC72-4FA9-B6AC-93E625923C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A1F2-E930-454D-AD11-8854AA9636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B4BD-5531-487C-AF84-2CA2A1DA4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61A3-C456-44CC-9FEF-71052ADEF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BBD7-2E39-43AA-B5D3-F128CB2036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BC47-B1CE-47D6-BF73-B3BF2C03BE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5B8F-F1DE-4E56-9AF6-42870953A0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CECF-AE87-4DC3-9C76-550C0B7301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290600" y="2738520"/>
            <a:ext cx="65628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2920" y="876240"/>
            <a:ext cx="8858160" cy="5105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6840720" cy="2570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68360" y="3490920"/>
            <a:ext cx="684036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95280" y="5535720"/>
            <a:ext cx="6840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42920" y="1047600"/>
            <a:ext cx="8858160" cy="47628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468360" y="2646360"/>
            <a:ext cx="2951280" cy="257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468360" y="5392800"/>
            <a:ext cx="2951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1:45:1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